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A5F-2BBF-4671-99DF-3CEF3BA7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72F-B48E-4344-80C7-2EF37F4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6A3-A892-43D0-A3E5-D9102BCD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9A0-3618-477E-AA2C-F48D20BE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EC19-07E1-431A-AF6B-5D61F95B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7960-F39D-40BA-A3F6-8C33AE0D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0848-E38F-45BD-AC10-DF37891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D7C-25E7-485E-BA98-4269BF6B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CC62-9627-4DC9-90BA-00AF6BC3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F0C-5E4D-4818-AE9B-1E53ED3D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C22C-0486-424C-A1A2-BB017B2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B4D-F393-4420-8780-1970FCE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A09-86DD-47E8-92F6-8DF102C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A42-7C8E-4123-9BE8-80BB603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856-47A0-40C0-810F-CD727505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2A3A-C398-41CB-92DB-D06D1469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BC0-A4CA-4D90-8323-A86B4D06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1F80-5AB5-4911-89A4-2345472C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96C1-7DEA-4FF4-B22A-B9A01B84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C232-4BFA-4391-B7CD-09A65F19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D24A-8A71-4301-A311-B792AF6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25BE-3288-4172-9CF8-75D97C62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353-1625-486E-962B-9A96ABCD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AF90-3C96-4452-94BB-1ED48E8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806B-2335-4A3A-8779-41B5EDE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7CC5-0A04-42F4-9DEC-FAB86B6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56F8-2754-47FF-A6C1-AB6D2E1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4CD5-284D-41F4-ABC5-A114C428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38E7-C6FB-41AB-ABCB-9A2EC7C6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4056-35C7-4942-BD11-C9D8F0C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4CEE-4EE5-4653-AA5B-3A0027BB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60F7-16D0-46B3-8B7D-4D9AC60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857F-D7AA-451E-B307-F80F61D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256-7663-4545-8483-E4B6AE4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5A72-926D-4909-A093-ACA6F715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6CAA-EC9A-4B30-B950-7381832A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AF56-ACBB-4FC5-8EB3-F488E91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091A-C600-4A6A-B81A-04E339EE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446A-39B0-48F6-A4C6-C498C12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B3F0-0289-4D66-B168-9EA0DA19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0873-F4B2-46CA-88B0-285ABF47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1BAD-F646-4E31-863E-AACEB018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8964-99A7-4F15-874B-91DF0FF4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074B-4F8E-4D0C-A398-142EAA8E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923-7C0E-4B75-A167-83925FB6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A4B9-32BE-475F-A38B-1C1206E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4F6EB-A891-44D4-84B3-D929F53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94BB-423B-4E8C-B26F-A25C394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7478-FDEF-4D29-85C1-9BDB2CA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3B986-4C4B-432A-B7E0-D497E54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5071-400A-402A-91A1-1DC780D2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9B6F-351A-4365-9686-42CCDD5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B22B-9FEA-464E-9849-5C903D4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4345-31E7-4363-AAA3-EB958A9D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C41AF-DDCA-4548-BE5B-6443C0F1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DB5-8B0C-4F57-8212-B73F3DD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A0C3-B59A-474C-B3F8-69A97DF9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9243-BCB6-4D9C-A123-C471F57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9AE3-46B7-4141-BB87-7732C17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D465-36D5-4206-B3D7-D07AD4CF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AE73-2B3D-4DC4-BE55-C57FBE86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CACB-DE9E-4126-B430-1B8B440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53C4-52B0-4F5E-8A13-728E22F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2ADC5-551C-4A55-95C4-A0F09DDA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6C2D-B7B3-414C-88A7-AC8875B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C39E-650C-44F5-8E40-4B98EDA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873-867F-4807-9111-D6D7605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54E0-2374-4DBE-BA6C-F514147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C283-3CF8-4C4C-A35D-4EDE5B97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CF73-033A-4765-9B94-D6D3A868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3335A-374C-4646-9CD2-EBC9CEEE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563D8-43A1-4B09-A4BE-69C657A2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1AB4-DF44-47E2-BDED-4CA99B37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1670B-06F4-4AA1-BC8A-95F6401D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3A4B-67A5-47F3-A229-11F55B35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C145-CC13-4E89-A357-9DEF4570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F879-8A00-43E3-8997-E85FAA4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694-1EA2-437B-BDCE-AC3D578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252E-7B7A-4E01-B069-0DBE846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2695-50D9-450E-BF7A-A45EDBE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526E-34D2-4283-B242-6543C22E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958C-0716-47B2-84C2-26037060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8F5B-289C-45B5-B931-07AB2B7E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8C5-81EB-4B9F-AAF5-B62A27D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D7E-3E0A-4847-8228-BB05AD8A6A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A4B-9C1E-495A-AABD-986C0B8209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66F-F727-4B5D-B125-085EAD5B566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5A7-92D6-476D-833C-3F9760728F8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EAFF-512E-4D3D-8657-9D020C9B7C4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8A14-B2DF-40D6-9ED6-B5FB2205AFD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449-E5A6-45E5-AD1A-2E217F1E572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57a"/>
                </a:solidFill>
                <a:latin typeface="Consolas"/>
              </a:rPr>
              <a:t>Me llamo __________       Clase 8IM</a:t>
            </a:r>
            <a:br>
              <a:rPr sz="3600"/>
            </a:br>
            <a:r>
              <a:rPr b="0" lang="en-US" sz="3600" spc="-1" strike="noStrike">
                <a:solidFill>
                  <a:srgbClr val="ea157a"/>
                </a:solidFill>
                <a:latin typeface="Consolas"/>
              </a:rPr>
              <a:t>La fecha es el 18 de mayo del 2012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rbel"/>
              </a:rPr>
              <a:t>Propósito # 47: </a:t>
            </a: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¿Quién es Jennifer Rodríguez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rbel"/>
                <a:ea typeface="Times New Roman"/>
              </a:rPr>
              <a:t>Actividad Inicial: </a:t>
            </a: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Complete using the direct object pronuon. (La, las, lo, los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¿Quieres las botas de esquí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¿Usaste los anteojos de sol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¿Necesitas al anorak para esquiar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¿Compraste los guantes para esquiar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¿Invitaste a tus amigos a esquiar contigo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Consolas"/>
              </a:rPr>
              <a:t>Repaso de la 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TextBox 41"/>
          <p:cNvSpPr/>
          <p:nvPr/>
        </p:nvSpPr>
        <p:spPr>
          <a:xfrm>
            <a:off x="380880" y="106668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</a:t>
            </a: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Dejaste tu traje de baño en casa? (n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 Llevaste traje de baño nuevo? (Sí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ónde compraste tu traje de baño? (en la tienda Ricoma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Usaste la crema protectora? (Sí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saste el fin de semana en la playa? (Sí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Miraste las fotos de Marí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ónde tomó ellas las fotos? (en la play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Consolas"/>
              </a:rPr>
              <a:t>Repaso de la 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TextBox 41"/>
          <p:cNvSpPr/>
          <p:nvPr/>
        </p:nvSpPr>
        <p:spPr>
          <a:xfrm>
            <a:off x="380880" y="10666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Yo voy a la montañ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Mi primo va a la montañ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Mis amigos van a la pisci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¿Vas a la piscina o al m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Vamos a la cancha de ten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Times New Roman"/>
              </a:rPr>
              <a:t>Y yo, voy a una estación de esquí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c1eeff"/>
                </a:solidFill>
                <a:latin typeface="Consolas"/>
              </a:rPr>
              <a:t>Vamos a conocer a Jennifer Rodríguez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xtbook: P. 15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En qué juegos participa Jennifer Rodríguez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Participan muchas latinas en los Juegos Olímpicos de Inviern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Es Jennifer de ascendencia mexicoamericana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De dónde es ella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Hace frío en Miami en el inviern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Es Jennifer esquiadora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Qué es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Tiene ella muchas medallas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Cuantas medallas ganó en los Juegos de 2002 (dos mil dos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Corbel"/>
              </a:rPr>
              <a:t>¿Ganó medallas de oro, de plata o bronc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73040" indent="-4730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rkbook P. 7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5-18T13:33:57Z</dcterms:modified>
  <cp:revision>100</cp:revision>
  <dc:subject/>
  <dc:title>Me llamo __________            Clase 7IM La fecha es el 14 de septiembre del 2011</dc:title>
</cp:coreProperties>
</file>